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B0C-A428-4842-A979-34C2F91E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C7C-7E81-45A1-8596-8E5DF350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247-68F6-4BEA-AF79-99C8B5CF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196-8C91-4D25-81B3-360FD730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D21-3E2F-468A-A91C-8978CC36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1D0A-DBC3-41B2-AE32-D819D791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C8A-74D2-48B8-A450-0BC4CCA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FC1A-613D-408D-B106-A2A5BCC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7439-BD3C-4FC4-B3FA-8ADBAB37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C8B0-5424-4EB9-8665-376DF7DA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5F3D-328B-4230-B64B-663FDB0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8EA-8A6B-480D-B471-BFAAB94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5264-5524-4BDC-812D-6D7707B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D126-4CAA-4AC7-99F6-1FC6EC0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EF13-EE8C-4353-910D-6DFF177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B71F-A8FC-4A09-A39D-9941EB7C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B996-A95D-4E5B-BEC1-61FA9BDA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8EC-C9E7-4FF4-B5F2-89A0C9C0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365-E719-4AFE-81CC-52CB5814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2CC-B5EC-4FC1-B9B2-32C634C9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BF9-8CAC-4647-9F96-964BDE1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E4E-4617-4834-B9B5-CAE3681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2D0-4B7D-46F7-BAE6-BFCE328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98B-F1BF-40E7-BA8F-EC45DFB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9D6-F407-42EF-BA3A-E68564C6E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1DE5-6C71-4FBA-95AE-B860CE0F7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ccecff"/>
                </a:solidFill>
                <a:latin typeface="Garamond"/>
              </a:rPr>
              <a:t>THE ROAD TO REVOLUTION -1763-1778</a:t>
            </a:r>
            <a:endParaRPr b="0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lum contrast="6000"/>
          </a:blip>
          <a:srcRect l="0" t="0" r="0" b="5066"/>
          <a:stretch/>
        </p:blipFill>
        <p:spPr>
          <a:xfrm>
            <a:off x="457200" y="2514600"/>
            <a:ext cx="2511360" cy="354168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Menace Of Mercantilism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side to Mercanti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urt economic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planters were treated more favorab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Crop farmers forced into 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antilism was humiliating to Americ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Stamp Tax Uproar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war, Brits wanted to start taxing the American Colon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hat Purpo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Grenville ordered End of Salutary Negl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A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494400" y="2209680"/>
            <a:ext cx="23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New Mercantilist Laws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Act—176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ing Act of 176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mp Act —176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ct became the most h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aramond"/>
              </a:rPr>
              <a:t>Stamp Act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t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t antag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view of its fai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view of its fai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xation without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tual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1731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Parliament Forced To Repeal The Stamp Act</a:t>
            </a: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mp Act Congress of 176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mportation agreements of British go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s of Liberty and Daughters of Liber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ator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contrast="6000"/>
          </a:blip>
          <a:srcRect l="1851" t="1406" r="2078" b="4758"/>
          <a:stretch/>
        </p:blipFill>
        <p:spPr>
          <a:xfrm>
            <a:off x="457200" y="1905120"/>
            <a:ext cx="4124160" cy="320184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685800" y="54864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rring and Feathering a Tax Stamp 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The Townshend Tea Tax And The Boston Massacre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les “Champagne Charlie” Townsend emerges as P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767 he persuades Parliament to pass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wnshend A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is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68 British officials landed 2 regiments of troops (700) in Bost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860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Massacre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2151" t="0" r="0" b="0"/>
          <a:stretch/>
        </p:blipFill>
        <p:spPr>
          <a:xfrm>
            <a:off x="1447920" y="1066680"/>
            <a:ext cx="6095880" cy="538668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The Seditious Committees Of Correspondence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wnsend Acts were a fail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70 Townshend Acts repealed. But the tax on tea rem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Adams, master propagand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the loc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ittees of Correspon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M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 to Inter-colonial committees of correspon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960640" cy="4525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Ad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73 the British East India Company had a big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Parliament try to remedy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Parliament so motivated to fix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114640" cy="2362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3526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ea Act 1773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gave BEIC a complete monopoly on the American tea busine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sell tea more cheaply than the smuggled tea, even with the ta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s out the American middle-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rs colonists. Americans see as a trick to make the tax pala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22800" y="1752480"/>
            <a:ext cx="2436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DEEP ROOTS OF REVOLUTION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Revolution was a revolution in thought and perception about who the colonists w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s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tea cargo of the Company reached its destina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polis — colonis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ed cargo and the 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leston—Governor stores in a warehouse.  Is eventually sold during the war to pay for uni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 of white townspeople dressed as Indians boarded the 3 tea ships on Dec. 6, 1773. They smashed 342 chests and dumped the tea into Boston harbor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ston Tea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4200" y="1414440"/>
            <a:ext cx="8686800" cy="523872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Response to 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of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lerabl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 Port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. Government 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ing 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. of Just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Quebec Act - 1774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 of the Intolerable Acts. But passed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it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believed it was “intolerable” and designed to punish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1371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aramond"/>
              </a:rPr>
              <a:t>Quebec Before and After 1774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7086600" cy="615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Continental Congress And Bloodshed</a:t>
            </a: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74--In response to the Intolerable Acts colonists c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Continental Cong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 in Philadelphia to discus ways of redressing colonial griev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of 13 colonies sent 55 m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w up a Declaration of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Continental Congress And Bloodshed</a:t>
            </a: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124080" y="15998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Congress helped creat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 to get Brits to repeal the Intolerable Acts and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for a complete boycott of British goods. non-import, non-export and non-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a move toward 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Lexington and Concord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Hanc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Rev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Heard Roun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1676520"/>
            <a:ext cx="5181480" cy="367956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Lexington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70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Strengths and Weaknesses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Str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tr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8320" y="2335320"/>
            <a:ext cx="40384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THE MERCANTILE THEORY</a:t>
            </a: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of all major European nations from 16th 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8th cent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antilism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wealth was power and that a country’s economic wealth (both military and political power) could be measured by the amount of gold or silver in its treasu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31240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A THIN LINE OF HEROES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3905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aramond"/>
              </a:rPr>
              <a:t>Mercantilism</a:t>
            </a:r>
            <a:br>
              <a:rPr sz="2800"/>
            </a:b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Elements of the Theor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et gold, must export more than im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provide export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provide source for raw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can’t trade with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can’t produce their own finishe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olonies to produce what mother country must im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Mercantilism Trammels On Trade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ament passed many laws to enforce the mercant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vigation La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fam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Money Proble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6483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urrency came from out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use British, French and Spanish Co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buying more than could sell under Mercantile policies, so chronic shortage of hard cur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4955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Money Proble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colonists use for currency besides co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eve of revolution, colonies issue paper money of dubiou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value “dubious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ament eventually bans, which is one more grievance of col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Merits of Mercantilis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utary Negl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ert Walp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ugg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did rea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direct benefits from Mercanti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27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enefits of Mercantilis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supports and subsidies helped them compete against the Europ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monopo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rights of Englishmen and opportunities for self-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strong British army and N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perity trickled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3:45:34Z</dcterms:created>
  <dc:creator>John Steere</dc:creator>
  <dc:description/>
  <dc:language>en-US</dc:language>
  <cp:lastModifiedBy>Mark A. Jenkins</cp:lastModifiedBy>
  <dcterms:modified xsi:type="dcterms:W3CDTF">2008-02-07T14:35:28Z</dcterms:modified>
  <cp:revision>19</cp:revision>
  <dc:subject/>
  <dc:title> THE ROAD TO REVOLUTION -1763-1778</dc:title>
</cp:coreProperties>
</file>